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5AA-A1CD-48A8-B9B2-FDE4AC72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584-15B2-47F0-BACA-4108AF6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7BF-5B76-46BE-98C3-0B66A9DD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EC4-01E7-4FCB-8608-0E7BEC5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29F-2E1B-4E48-A3ED-899BC4FA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7DB-D958-4A68-9812-7750DC6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E60C-87D8-452B-BAA0-B45CD959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D5D5-4220-4487-A66B-393F8FD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A979-F7C7-4E57-81CE-C72CA159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077-16CE-457E-B4B9-4CC6B14E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7905-3A1A-47BA-AE05-541EBA8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519-2C49-426D-B468-43D1DBF4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815-4449-467B-92CB-0D50652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2CA8-CA75-4491-A495-EF6A7F4A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8B71-E68E-4752-82E6-908C233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9BA-D366-4321-AAD0-8E2E07A1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C767-63FD-4DB5-8CA5-8EAC952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50E-C894-49CA-A747-1B6384F8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F08-7E23-49A1-9893-1C6C839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295-CE49-40C6-B488-1488F44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533-E7CE-4AF3-8F0D-F96BF567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99F-C00F-4ED9-8062-CCC0142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4A9-D4CF-420A-BAF3-93EDC5A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6E5-8386-4842-836B-1ADF499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4D49-49BD-40FA-AA94-06B2A387D4E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FAC-E3AB-40B8-AA9A-00CDE45F5AA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ull grown lion can eat seventy-five pounds of meet in one me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le lions way several hundred pounds and are vary strong but they prefer to stay home with the cubs while females do the hun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3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biggest pet peeve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’re car overheats and steam billows out from under the hood you need to remember that payshunce is a virtue and don’t immediately remove the radiator cap, or you might get scald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getarians can enjoy Summer barbecues without feeling left out grilling is not just for meat anymore skewered marinated vegetables are delishous when grill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3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f you were stranded on a deserted island, what 5 things would you bring with you and wh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cell phone, computer, boat, helicopter.  Nothing that will get you rescued from the is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hort paragraph with ten proper nouns.  (Remember, proper nouns name a specific person, place, thing, or idea and are always capitalized.) Circle the proper nou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98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Then substitute </a:t>
            </a:r>
            <a:r>
              <a:rPr b="1" lang="en-US" sz="2200" spc="-1" strike="noStrike">
                <a:solidFill>
                  <a:srgbClr val="eaeaea"/>
                </a:solidFill>
                <a:latin typeface="Tahoma"/>
              </a:rPr>
              <a:t>personal pronouns</a:t>
            </a: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 for the proper nouns.  Personal pronouns include </a:t>
            </a:r>
            <a:r>
              <a:rPr b="0" i="1" lang="en-US" sz="2200" spc="-1" strike="noStrike">
                <a:solidFill>
                  <a:srgbClr val="eaeaea"/>
                </a:solidFill>
                <a:latin typeface="Tahoma"/>
              </a:rPr>
              <a:t>I, me, mine, we, us, our, ours, you, your, yours, he, him, his, she, her, hers, it, its, they, them, their, </a:t>
            </a: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and </a:t>
            </a:r>
            <a:r>
              <a:rPr b="0" i="1" lang="en-US" sz="2200" spc="-1" strike="noStrike">
                <a:solidFill>
                  <a:srgbClr val="eaeaea"/>
                </a:solidFill>
                <a:latin typeface="Tahoma"/>
              </a:rPr>
              <a:t>their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1:38Z</dcterms:created>
  <dc:creator>tpagel</dc:creator>
  <dc:description/>
  <dc:language>en-US</dc:language>
  <cp:lastModifiedBy>tpagel</cp:lastModifiedBy>
  <dcterms:modified xsi:type="dcterms:W3CDTF">2010-06-03T17:02:04Z</dcterms:modified>
  <cp:revision>1</cp:revision>
  <dc:subject/>
  <dc:title>Warm-Up Sentences</dc:title>
</cp:coreProperties>
</file>